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E0A6-5F7B-4780-A4F8-96A18DBCF8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1EE1-F8FE-4FCA-84B3-0B1418309D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0C05-E772-4E98-BC88-9E36B5484E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3FDE-E29B-481F-9C88-F0F18DA68E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D667-312C-4E67-8C99-8CE92FEC71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9AFF-DF3C-4769-A2B2-DD6045561D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1AE2-3FD5-42D8-BA0F-3A801301D1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D5F0-C078-4E52-8C40-154C0E272E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EB8D-E154-4638-8EB8-82167AC490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8A60-0768-4CDE-A369-E8C007EA81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6F33-2E5B-4669-94BF-60E60153E8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F135-9DCA-4FA5-884C-60076406E5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1D8E-E058-46A3-A160-1396D6162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C0BA-2891-44FD-9EB8-1A57BA3B05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C7B7-63E1-484C-A1F1-B196C22F9C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0298-02CF-408D-87F2-4AC9D4AF01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5534-1484-42EE-BEFA-A641418A06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3824-0F9A-4D7B-B1EB-311427E022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AF32-54BB-41A1-BCEC-3BA7071BBF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F306-A709-4CA9-8640-4ED61FC20C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991E-F95C-4E36-B747-08AA981D01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6240-BDF2-4F52-9050-14F53A119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C144-802B-4C65-9237-5A845AE020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2B7A-0D64-400D-94E9-28E1FA44F6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64C5-2BF0-41DC-91A0-4CB8B94B7B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2E9F-296F-4CD1-B677-B495FBA5F9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E7C0-4D79-4156-874A-07B2F4365C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83B1-03C9-40F1-8C99-2E71A64038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50D75-94C6-415A-B4C1-A74842C00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A6E37-EDA1-4489-BC8F-EE8CF0E50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2671F-4D58-4A96-9FDB-B2913B8AB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FFC1B-AB95-4A09-8525-E95BF531F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AC791-D68C-4005-968C-E97A3E1FB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4701-34D8-44FF-A8C2-BDAD679D3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5EA0-3F7E-43AB-8D49-4E26CF361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FD71D-0B8E-4475-A396-CEE84671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E1116-FAF3-426D-B50E-C9A69D834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F9E3F-4DBB-468D-A91F-0D33A3EA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8302-76CE-44B7-88CE-B4577242B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7BFB-4FD7-4B92-8D66-4E1F26942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F124-06C8-4D6E-B195-80362C165196}" type="datetime">
              <a:rPr b="0" lang="nl-NL" sz="1200" spc="-1" strike="noStrike">
                <a:solidFill>
                  <a:srgbClr val="898989"/>
                </a:solidFill>
                <a:latin typeface="Calibri"/>
              </a:rPr>
              <a:t>30-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47BE-82AE-466A-BA9E-D3E76EFED4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8720-FDD9-4BC6-AC56-9149EED8A6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E967-E5C7-422B-928A-D3317826C5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0761-6967-4A22-816F-502A0E2E82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9080-792B-4053-9912-6B0676141C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D8AF-D2F5-40EC-BE6D-891AAAFB7D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E08C-6777-4376-A0E1-1AE5F81A1E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22BA-F996-42BD-8E7F-680F3E5E0A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3079-AD25-4FF7-A00C-C50CB8D2D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530C-B8DA-44F2-97BB-220450893C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2C2C-446C-4592-854A-8855999FF4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2395-9646-481D-BE5D-A67184D3B3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D6F3-AE8D-4846-AEB5-5EE030391A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258F-4F77-4AD5-A722-2948AC3B7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4A6A-1015-4FE3-A5F9-95C95EDA3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E9C9-3753-4B81-8392-5B8A27A9A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9299-C070-497E-872F-9F17F45775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95BE-99A8-4F21-B5E7-940102C4B6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8B6A-26C4-4BAF-BD41-3AAFAAD818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5F37-459F-48C2-BA96-C00742BB8E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E7CD-7847-400A-998B-077EC6D448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64C1-9583-4716-9593-D112D6D05E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1536-5D02-4A09-BDE1-E6C49A5C30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4320-0DE5-409D-A1B1-2AABFC363A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952B-952B-4B29-8ECC-8A3F25C2FD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F9AC-0612-4988-A3E2-56DB776D50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9749-0C36-4781-A906-E1BBEA15BC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E481-B66C-4EBC-8228-24C7F551BF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9F90-F772-46E8-B638-583458BB9D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875F-B571-4286-A949-D7CA23B998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